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288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97240" y="499680"/>
            <a:ext cx="33336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92160" y="3166560"/>
            <a:ext cx="794376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2464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E5C-7775-4FDE-8EE3-6219DDE0E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62464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7606-0249-42A1-939F-F649AC7A37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59160" cy="2519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23720" y="3185640"/>
            <a:ext cx="7280280" cy="29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DF9-43AC-4900-9DDC-A9836D67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0AA-09F2-426F-8393-A01C6FE4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AE9-4846-4C17-9649-3403155D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224-96AD-46B4-B21F-C45D3AE1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63F9-5AB3-4BF1-B657-009A568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BE2F1-A16B-41F9-B5C5-36EED01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FD782-A594-49AB-87FA-696C510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6D29D-4102-4850-82B7-3519481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7089C-A82C-413F-A42C-373A7FD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A8143-F417-48F4-884C-56E1E1E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23360-A2C4-4CAD-95BD-0D5FBBB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5E1-2BA6-463C-9960-0E86BF4E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0543-CFF5-49DB-B722-D0337D39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CAC0-FF1C-43F1-83BE-6BC52A6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E0280-0B7B-454A-A684-FBFA1F9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FC323-D038-402E-9DC6-A7260868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FE5D9-919A-4598-8FCC-0DEDFB86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8A5-76AF-466A-A7C3-671CDC5A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07A-648E-47D9-8A1E-5313D8D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EF0-A1D7-4701-B8A1-6A39DA0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78B-6AAE-4610-ADCC-36DF84C6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727-CF02-423D-BFE8-5081A50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47A-7223-4F81-89EC-5AE8E6B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DA3-3E49-4574-957D-E3A63F17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706-4383-4255-A430-A1D47832AC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C7AF-C8DA-468A-98CF-F246094645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7988040" cy="32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85327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ОПТИМИЗАЦИЯ ШКО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СРЕДЫ Д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ГАРМОНИЧНОГО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ЗВИТИЯ И УКРЕП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ЗДОРОВЬЯ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Lucida Console"/>
              </a:rPr>
              <a:t>Д.м.н.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33"/>
                </a:solidFill>
                <a:latin typeface="Bauhaus 93"/>
              </a:rPr>
              <a:t>С</a:t>
            </a:r>
            <a:r>
              <a:rPr b="1" i="1" lang="en-US" sz="2800" spc="-1" strike="noStrike">
                <a:solidFill>
                  <a:srgbClr val="ff9933"/>
                </a:solidFill>
                <a:latin typeface="Bauhaus 93"/>
              </a:rPr>
              <a:t>тепанова  Марина Исаак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Bauhaus 93"/>
              </a:rPr>
              <a:t>Москва 2.12.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60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НИИ гигиены и охраны здоровья детей и подростков НЦЗД РАМ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2276640"/>
            <a:ext cx="3047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новные компоненты организации учебного процесса в 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240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04920"/>
            <a:ext cx="2438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Объем образовательной нагрузки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66880"/>
            <a:ext cx="2895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Продолжительность учебного дня и недели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952880"/>
            <a:ext cx="2209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Расписание учебных занятий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0"/>
            <a:ext cx="2487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Стиль преподавания (авторитарный, демократический, либеральный)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421000"/>
            <a:ext cx="2952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Особенности организации профильного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обучения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0"/>
            <a:ext cx="2590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Чередование учебы и отдыха на уроке, в течение дня, недели, года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410080"/>
            <a:ext cx="304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Программы, методы, технологии и технические средства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373720"/>
            <a:ext cx="2209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mic Sans MS"/>
              </a:rPr>
              <a:t>Комлектация и наполняемость классных коллективов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1341000"/>
            <a:ext cx="1873080" cy="10796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643280" y="1557000"/>
            <a:ext cx="0" cy="6858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213000"/>
            <a:ext cx="79236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3200400"/>
            <a:ext cx="83808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02920" y="4076640"/>
            <a:ext cx="1706760" cy="79236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21000"/>
            <a:ext cx="0" cy="9144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4005360"/>
            <a:ext cx="1078200" cy="12524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547640" y="1341000"/>
            <a:ext cx="2160720" cy="10796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1BD-887E-4471-B06F-54DBA379A8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260280"/>
            <a:ext cx="8458200" cy="61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УРОВЕНЬ САНИТАРНО-ЭПИДЕМИОЛОГИЧЕСКОГО БЛАГОПОЛУЧИЯ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почти 60% учреждений по ряду критериев  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В 2,9%  - регистрируются грубые нарушения санитарно-эпидемиологического режим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В 18,6% - мебель не соответствует антропометрическим параметрам учащихся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6,5% - уровни  электромагнитных полей превышают нормы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7,1% – низкие уровни освещ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0,5% -</a:t>
            </a:r>
            <a:r>
              <a:rPr b="1" lang="en-US" sz="3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Lucida Console"/>
              </a:rPr>
              <a:t>микроклимат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61D-F46E-40E6-A21A-00AFD1633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A27-1BF8-45EE-8B45-29D445CEA5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Lucida Console"/>
              </a:rPr>
              <a:t>Оценка педагогами нагрузки учащихся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(по данным  Е.И.Степанова и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.В. Баныкиной, 2006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Результаты социологического опроса учителей школ Подмосковья показали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реть 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(33,7%)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расценивает учебную нагрузку учащихся как чрезмерную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свыше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16,0%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чрезмерной считает психическую нагруз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почти половина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(49,1%)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недостаточной считает физическую нагрузку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9A7-792B-4D70-BCB3-438BE690B1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3336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ahoma"/>
              </a:rPr>
              <a:t>БЛАГОДАРЮ ЗА ВНИМАНИЕ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тепанова Марина Исааковн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Д.м.н., зав. лабораторией гигиены обучения и воспит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НИИ гигиены и охраны здоровья детей и подростков НЦЗД РАМН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5526000"/>
            <a:ext cx="1316160" cy="927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31640" y="5308560"/>
            <a:ext cx="1187640" cy="114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1603080" cy="24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CA4-6474-410A-B133-8E5358C5C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Образовательная среда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овокупность факторов, формируемая укладом жизнедеятельности школ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материальные ресурсы школ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организацию учеб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процесса, питания, медицинского обеспечения, психологический клима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772-35D4-43B6-B498-E4E7059F4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Образовательная сре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Она определяет не только успешность обучения и воспитания детей и подростков, но и гармоничность развития и состояние их здоровь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FD6-FB38-45E2-A7BA-E5D4C4FC4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228600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Факторы риска школьной сред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8600"/>
            <a:ext cx="2725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Интенсификация учебного процесса и учебные перегрузки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0"/>
            <a:ext cx="3124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Использование педагогических технологий, не адекватных функциональным возможностям детей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762120"/>
            <a:ext cx="209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Авторитарная педагогика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666880"/>
            <a:ext cx="2738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Снижение возраста начала школьного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33720"/>
            <a:ext cx="304812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Несоблюдение гигиенических требований к микроклимату, освещенности, ЭМП, учебной мебели, ТСО и др.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181480"/>
            <a:ext cx="228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Нерациональное чередование учебы и каникул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257800"/>
            <a:ext cx="347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Плохая организация школьного пита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616800" y="5257800"/>
            <a:ext cx="2527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Гиподинамичный характер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599840" y="1294920"/>
            <a:ext cx="205740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1828800"/>
            <a:ext cx="0" cy="5335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43200" y="3124080"/>
            <a:ext cx="99072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343400"/>
            <a:ext cx="0" cy="6858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3860640"/>
            <a:ext cx="221004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1523520"/>
            <a:ext cx="1752480" cy="8384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789360"/>
            <a:ext cx="1819440" cy="12906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568-09DA-4B35-8DA0-3CA13EBFC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260280"/>
            <a:ext cx="8458200" cy="60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УРОВЕНЬ САНИТАРНО-ЭПИДЕМИОЛОГИЧЕСКОГО БЛАГОПОЛУЧИЯ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55,8% учреждений по ряду критериев  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2,9% учреждений - регистрируются грубые нарушения санитарно-эпидемиологического режим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18,6% учреждений мебель не соответствует антропометрическим параметрам обучающихся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В 16,5% учреждений уровни воздействия на детей электромагнитных полей превышают нормы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В 17,1% учреждений – низкие уровни освещ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Микроклимат в 10,5% учреждениях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3E7-020F-4ED2-B349-A03CDAFAA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Lucida Console"/>
              </a:rPr>
              <a:t>Вклад факторов школьной ср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о, что непосредственное влияние факторов внутришкольной среды на формирование здоровья учащихся составля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30-40%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49E-7494-477C-AA52-D2D64B1C6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Сегодня есть все основания считать, что вклад школьно-средовых факторов в формирование здоровья увеличился, поскольку в структуре нарушений здоровья школьников доминируют нарушения и заболевания, которые относятся к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школьно-обусловленным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323-3819-4135-841B-05218FAD74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ПТИМИЗАЦ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БРАЗОВАТЕЛЬНОЙ СРЕДЫ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Tahoma"/>
              </a:rPr>
              <a:t>ПРИОРИТЕТНАЯ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ДАЧ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БРАЗОВАТЕЛЬ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УЧРЕЖД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55E-A9FB-488A-8A50-470B36E716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Tahoma"/>
              </a:rPr>
              <a:t>ОРГАНИЗАЦИЯ УЧЕБНОГО ПРОЦЕССА 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ОДИН ИЗ НАИБОЛЕЕ УПРАВЛЯЕМЫХ  ФАКТОРОВ ШКОЛЬНОЙ СР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624-3420-43CC-9772-EE1013D20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1:03:11Z</dcterms:created>
  <dc:creator>BSL</dc:creator>
  <dc:description/>
  <dc:language>en-US</dc:language>
  <cp:lastModifiedBy>Okuneva</cp:lastModifiedBy>
  <dcterms:modified xsi:type="dcterms:W3CDTF">2010-12-07T08:22:01Z</dcterms:modified>
  <cp:revision>154</cp:revision>
  <dc:subject/>
  <dc:title>U</dc:title>
</cp:coreProperties>
</file>