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EFFC-2F91-4B4E-BD34-A6DD83F46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31FC-FD7A-44A3-A4D9-5E3D7B7D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3116-23A0-46AF-B69B-213AEBC0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099B-3442-4D3B-95DC-18BC12AF4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0F7D-E37D-47D5-BE0A-4BD4EFC7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EAE6-9AB4-45AA-8EC6-EF648EA3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CEBB-C17F-43FD-A704-4806759B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A1F7-88D5-42DA-ABA1-B094F69C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880C-9B62-4E91-97A1-AF125B3D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7DE1-9753-4F19-85C3-8C78E1DE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F4A2-5888-4C17-9E15-6D023190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7A51-BE7E-41BD-9933-31CA03E0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C159-07D3-41F0-B310-298F3BA1FE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roshumz.ru/archiv/qz.pdf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roshumz.ru/archiv/qz.pdf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roshumz.ru/archiv/qz.pdf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roshumz.ru/archiv/qz.pdf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roshumz.ru/archiv/qz.pdf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rapoportik@rambler.ru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НАУЧНЫЙ ЦЕНТР ЗДОРОВЬЯ ДЕТЕЙ РАМН</a:t>
            </a:r>
            <a:br>
              <a:rPr sz="2000"/>
            </a:b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НИИ ГИГИЕНЫ И ОХРАНЫ ЗДОРОВЬЯ ДЕТЕЙ И ПОДРОСТКОВ</a:t>
            </a:r>
            <a:br>
              <a:rPr sz="2000"/>
            </a:br>
            <a:br>
              <a:rPr sz="22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д.м.н. профессор  Рапопорт Ирина Калман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116000" y="2349360"/>
            <a:ext cx="662472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Медицинское обеспечение в школах, содействующих укреплению здоровья, и оценка показателей здоровья учащихся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71640" y="5084640"/>
            <a:ext cx="64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Московский городской Дворец детского (юношеского) творчества на Воробьевых гор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2 декабря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EMBNNI"/>
          <p:cNvPicPr/>
          <p:nvPr/>
        </p:nvPicPr>
        <p:blipFill>
          <a:blip r:embed="rId1"/>
          <a:stretch/>
        </p:blipFill>
        <p:spPr>
          <a:xfrm>
            <a:off x="7812000" y="5734080"/>
            <a:ext cx="115272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Вторая модель  Школы здоровь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Обязательную плановую медицинскую помощь в общеобразовательном учреждении осуществляет школьный врач и медицинская сестра (фельдшер) - медицинский персонал отделения организации медицинской помощи детям в образовательных учреждениях, т.е. сотрудники прикрепленной детской поликлиники (детского отделения амбулаторно-поликлинического учреждения общей сети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Школы здоровья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I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моделей</a:t>
            </a:r>
            <a:br>
              <a:rPr sz="2800"/>
            </a:b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(собственных лицензий на медицинскую деятельность не имеют)</a:t>
            </a:r>
            <a:br>
              <a:rPr sz="28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Школы здоровья, при наличии соответствующих помещений и дополнительного финансирования (10-15%), могут заключать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договоры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с прикрепленными детскими поликлиниками (детскими отделениями амбулаторно-поликлинических учреждений общей сети) о дополнительных медицинских услуга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Например о систематическом квалифицированном проведении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медицинскими работниками поликлиники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некоторых физиотерапевтических процедур, лечебной физкультуры и массажа непосредственно в школ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Детская поликлиника (детское отделение) должна иметь лицензию на медицинскую деятельность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в образовательных учреждени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Третья модель  Школы здоровь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Третьей моделью Школы здоровь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можно считать такую модель, которая предназначена для школьников с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тяжелыми хроническими соматическими заболеваниями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; учащихся,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длительно и часто болеющих; детей-инвалидов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с сохраненным интеллектом и психикой, прошедших медико-психолого-педагогическую комисси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В такой Школе здоровья имеется специализированное структурное подразделение –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«Оздоровительный центр»,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основной задачей которого является реализация оздоровительных, а точнее лечебно-коррекционных програм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Третья модель  Школы здоровь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В штате «Оздоровительного центра»,т.е.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в штате самой школы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, работают медицинские работники с высшим и средним медицинским образован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«Оздоровительный центр» оснащен медицинским оборудованием, в основном из спектра оборудования восстановительной медицин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Медицинская деятельность в Школе здоровья при такой организационной модели может осуществляться только при наличии у самой школы соответствующей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лицензии на медицинскую деятель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Третья модель  Школы здоровь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Вместе с тем, функционирование «Оздоровительного центра» Школы здоровья предполагает и активное участие в профилактической, диагностической и лечебно-коррекционной работе, проводимой в школе,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медицинского персонала прикрепленного амбулаторно-поликлинического учреждения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, особенно при проведении профилактических медицинских осмот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Лабораторно-инструментальное исследование и обследование учащихся врачами - узкими специалистами, сложные лечебные процедуры осуществляются в поликлинике и/или в специализированных лечебно-профилактических учреждения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Третья модель  Школы здоровь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Таким образом, Школа здоровья, имеющая «Оздоровительный центр», не подменяет деятельность поликлиники, а приближает к учащимся некоторые медицинские услуги (в основном разнообразные физиотерапевтические процедуры, фитотерапию, щадящее питание), которые  должны проводиться больным детям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на протяжении всего учебного го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Для работы «Оздоровительного центра» Школа здоровья третьей модели должна иметь соответствующие условия - финансирование, помещения, оснащение, кадровый потенциал, (школьный автобус для доставки детей-инвалидов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55640" y="620640"/>
            <a:ext cx="7848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В НИИ гигиены  и охраны здоровья детей и подростков НЦЗД РАМН разработаны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критерии и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система оценок медицинского обеспечения и показателей здоровья учащихся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школ, содействующих укреплению здоровь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Оценка проводится  по типу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«самоаудита»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 шко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Система оценок представлена в 6 разделе «К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ритериев оценки деятельности школ, содействующих укреплению здоровья»,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изложенных в книге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В.Р.Кучмы с соавт.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«Школы здоровья в России», 2010г.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Книга размещена на сайте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NIIGD.RU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 в разделе «РОШУМЗ» (Российское общество школьной и университетской медицины и здоровь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Раздел 6 </a:t>
            </a:r>
            <a:br>
              <a:rPr sz="2800"/>
            </a:b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Критерии оценки</a:t>
            </a:r>
            <a:br>
              <a:rPr sz="28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МЕДИЦИНСКОГО ОБЕСПЕЧЕНИЯ и ПОКАЗАТЕЛЕЙ ЗДОРОВЬЯ УЧАЩИХСЯ ВСЕЙ ШКО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Цель анализа показателей - динамическое слежение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за организацией медицинского обеспечения  и состоянием здоровья учащихся для принятия управленческих решений по совершенствованию проводимой работы(мониторинг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В книге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В.Р.Кучмы с соавт.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«Школы здоровья в России» приведены алгоритм, протокол и приложения, необходимые для получения и объективной оценки показа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БАЛЛЫ</a:t>
            </a: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Принципы  выставления балл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0 –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Не проведена оценка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соответствующего показателя состояния здоровья, (тенденция к ухудшению показателя при динамическом наблюдени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1 –Оценка показателей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проведена не полностью или не у всех учащихся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школы (не менее 80%); уровень показателя ниже  (хуже) требуемого параметра (норматива), (нет улучшения показателей в динамике наблюдения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2 –Оценка показателей проведена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полностью  и у всех учащихся школы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; уровень показателя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соответствует требуемому параметру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(нормативу); (нет улучшения показателей в динамике наблюдения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3 –Оценка показателей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проведена полностью  и у всех учащихся школы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;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уровень показателя выше  (лучше) требуемого параметра (норматива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); отмечается отчетливая и стойкая тенденция улучшения показателя состояния здоровь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99640" y="836640"/>
            <a:ext cx="748836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Для тех школ, которые впервые оценивают показатели состояния здоровья учащихся, баллы выставляются в зависимости от того, полностью или частично охвачены обследованием учащиеся школы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(0, 1 и 2 балла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Те школы, которые проводят оценку состояния здоровья учащихся  в динамике за 2-3 (и более) года и выявили благоприятные показатели, имеют возможность по каждому пункту (6.4., 6.5, 6.6., 6.7, 6.8) выставить себе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 балла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755280" y="907920"/>
            <a:ext cx="747396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В настоящее время в России развивается сеть школ, содействующих укреплению здоровья обучающихся, которая насчитывает более 5 тысяч образовательных учрежд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4360" y="620640"/>
          <a:ext cx="7775280" cy="5472360"/>
        </p:xfrm>
        <a:graphic>
          <a:graphicData uri="http://schemas.openxmlformats.org/drawingml/2006/table">
            <a:tbl>
              <a:tblPr/>
              <a:tblGrid>
                <a:gridCol w="77752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  <a:ea typeface="Times New Roman"/>
                        </a:rPr>
                        <a:t>6.1. Наличие медицинского пункта (кабинета) в школ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r" pos="38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  <a:ea typeface="Times New Roman"/>
                        </a:rPr>
                        <a:t>6.2. Наличие  медицинского персонала, работающего в            школ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ffffff"/>
                        </a:buClr>
                        <a:buSzPct val="90000"/>
                        <a:buFont typeface="Symbol" charset="2"/>
                        <a:buChar char=""/>
                        <a:tabLst>
                          <a:tab algn="r" pos="38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оличество враче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90000"/>
                        <a:buFont typeface="Symbol" charset="2"/>
                        <a:buChar char=""/>
                        <a:tabLst>
                          <a:tab algn="r" pos="38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график работы школьного врач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buClr>
                          <a:srgbClr val="ffffff"/>
                        </a:buClr>
                        <a:buSzPct val="90000"/>
                        <a:buFont typeface="Symbol" charset="2"/>
                        <a:buChar char=""/>
                        <a:tabLst>
                          <a:tab algn="r" pos="38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оличество среднего медицинского персона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buClr>
                          <a:srgbClr val="ffffff"/>
                        </a:buClr>
                        <a:buSzPct val="9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график работы среднего медицинского персона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  <a:ea typeface="Times New Roman"/>
                        </a:rPr>
                        <a:t>6.3. Оборудование, оснащение медицинского кабине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6.4. Численность обучающихся,  у которых в процессе учебы зарегистрированы благоприятные изменения физического разви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В книге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&lt;Школы здоровья в России (концепция, планирование и развитие)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Приложение 20. В приложении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Инструкция по измерению физического развит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Таблицы (нормативы) Границы нормальных вариантов массы тела при разном росте детей от 6 до 18 лет включитель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Протокол оценки физического разви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Необходимо проводить оценку физического развития 2 раза в год – в мае и сентябр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6.5. Численность обучающихся,  у которых отмечается благоприятная динамика состояния здоровья  (по результатам обработки данных анкетного опроса для выявления жалоб на нарушения здоровья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Анкету заполняют родители каждого учащегося начальных классов. Учащиеся средних и старших классов заполняют индивидуальную анкету самостоятель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книге </a:t>
            </a:r>
            <a:r>
              <a:rPr b="0" lang="en-US" sz="20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&lt;Школы здоровья в России (концепция, планирование и развитие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Приложение 2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В приложени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Инструкция по заполнению анке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Анке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Протокол оценки динамики количества жалоб (в баллах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Протокол динамики отклонений в состоянии здоровья (благоприятная динамика – уменьшение количества жалоб) , неблагоприятная динамика  – увеличение количества жалоб, стабильные показатели –незначительные колебания количества жалоб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6.6. Изменения количества случаев заболеваний, перенесенных учащими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В книге 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&lt;Школы здоровья в России (концепция, планирование и развитие)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Приложение 22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В приложени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Инструк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Протокол регистрации пропусков занятий по болез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Протокол расчета относительных показателей (случаев, дней пропусков, часто болеющих детей, «индекса здоровья»  на 100 учащихс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Средние показатели заболеваемости учащихся школ Москвы – условные ориентировочные «нормативы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6.7. Численность обучающихся, у которых в процессе учебы регистрируются благоприятные изменения  физической подготовлен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В книге </a:t>
            </a:r>
            <a:r>
              <a:rPr b="0" lang="en-US" sz="28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&lt;Школы здоровья в России (концепция, планирование и развитие)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Приложение 23.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В приложении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Инструкция по оценке физической подготовлен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Перечень тестовых упражн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Оценочная шка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Протокол оценки физической подготовленности в балл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Нормативные таблицы по тестам в зависимости от пола и возраста учащих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821844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6.8. Численность обучающихся, у которых на основании данных профилактических медицинских осмотров регистрируются благоприятные изменения в показателях комплексной оценки состояния здоровья (ГРУППЫ ЗДОРОВЬЯ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В книге </a:t>
            </a:r>
            <a:r>
              <a:rPr b="0" lang="en-US" sz="32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&lt;Школы здоровья в России (концепция, планирование и развитие)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Приложение 24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. В приложени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Инструк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Протокол распределения учащихся на группы здоровья (в 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18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68360" y="549360"/>
          <a:ext cx="8136000" cy="5974920"/>
        </p:xfrm>
        <a:graphic>
          <a:graphicData uri="http://schemas.openxmlformats.org/drawingml/2006/table">
            <a:tbl>
              <a:tblPr/>
              <a:tblGrid>
                <a:gridCol w="8136000"/>
              </a:tblGrid>
              <a:tr h="1042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  <a:ea typeface="Times New Roman"/>
                        </a:rPr>
                        <a:t>6.9. Участие администрации и педагогического коллектива в организации профилактических медицинских осмотров учащихс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  <a:ea typeface="Times New Roman"/>
                        </a:rPr>
                        <a:t>6.10. Участие администрации и педагогического коллектива в организации иммунопрофилактической  (прививочной) работы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в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  <a:ea typeface="Times New Roman"/>
                        </a:rPr>
                        <a:t>школ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  <a:ea typeface="Times New Roman"/>
                        </a:rPr>
                        <a:t>6.11. Учет случаев травм детей, произошедших при нарушении правил безопасности жизнедеятельности (в школе и/или вне школы), в том числе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743040" indent="-285840" algn="just"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и оказании медицинской помощи силами медицинского персонала школы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743040" indent="-285840" algn="just"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и оказании помощи силами бригады «скорой помощи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ояснения в разделе «Алгоритм для оценки деятельности ШКОЛ, СОДЕЙСТВУЮЩИХ УКРЕПЛЕНИЮ ЗДОРОВЬЯ»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971640" y="764640"/>
            <a:ext cx="76896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В НИИ гигиены и охраны здоровья детей и подростков  НЦЗД РАМН создана лаборатория Научно-методических основ школ здоровь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Все замечания и предложения по совершенствованию критериев и показателей оценки деятельности Школ, содействующих укреплению здоровья, просим направлять по электронному адресу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rapoportik</a:t>
            </a: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@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rambler</a:t>
            </a: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ru</a:t>
            </a: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920000" cy="18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Спасибо за внимание.</a:t>
            </a:r>
            <a:br>
              <a:rPr sz="3200"/>
            </a:b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доктор медицинских наук, профессор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Рапопорт Ирина Калмановна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87280" y="3716280"/>
            <a:ext cx="705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НИИ гигиены и охраны здоровья детей и подрост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НЦЗД РАМН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105064 Москва, Малый Казенный переулок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д.5 стр.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E-mail: 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hlinkClick r:id="rId1"/>
              </a:rPr>
              <a:t>rapoportik@rambler.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Тел. (495) 917-48-31, (495) 916-06-9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899640" y="765000"/>
            <a:ext cx="76899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Школы, содействующие укреплению здоровья, созданы с целью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сохранения и укрепления здоровья учащихся путем создания безопасной и благоприятной для здоровья физической, психологической и социальной среды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повышения двигательной активности учащихся и улучшения качества питания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формирования устойчивых стереотипов здорового образа жизни у обучающихся, их родителей и педагогов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рациональной организации профилактических и оздоровительных мероприятий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900000" y="836640"/>
            <a:ext cx="732960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В процессе совершенствования здоровьесберегающей и оздоровительной деятельности школы, содействующие укреплению здоровья, могут проходить определенные ступени развит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Школы здоровья – это наиболее высокая ступень в развитии школ, содействующих укреплению здоровья обучающих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rot="10800000">
            <a:off x="1763280" y="2636640"/>
            <a:ext cx="5759640" cy="3673440"/>
          </a:xfrm>
          <a:custGeom>
            <a:avLst/>
            <a:gdLst>
              <a:gd name="textAreaLeft" fmla="*/ 1266480 w 5759640"/>
              <a:gd name="textAreaRight" fmla="*/ 4493160 w 5759640"/>
              <a:gd name="textAreaTop" fmla="*/ 807840 h 3673440"/>
              <a:gd name="textAreaBottom" fmla="*/ 286560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71640" y="6308640"/>
            <a:ext cx="709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1640" y="907920"/>
            <a:ext cx="0" cy="540072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25640" y="5157720"/>
            <a:ext cx="709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06560" y="4149720"/>
            <a:ext cx="7129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40000" y="5445000"/>
            <a:ext cx="48258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Arial"/>
                <a:ea typeface="Arial"/>
              </a:rPr>
              <a:t>Школы, пропагандирующие здоровь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I </a:t>
            </a:r>
            <a:r>
              <a:rPr b="0" lang="ru-RU" sz="1800" spc="-1" strike="noStrike">
                <a:solidFill>
                  <a:srgbClr val="800080"/>
                </a:solidFill>
                <a:latin typeface="Arial"/>
                <a:ea typeface="Arial"/>
              </a:rPr>
              <a:t>ступ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4365720"/>
            <a:ext cx="40323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Arial"/>
                <a:ea typeface="Arial"/>
              </a:rPr>
              <a:t>Школы, содействующие укреплению здоровья</a:t>
            </a:r>
            <a:r>
              <a:rPr b="0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II</a:t>
            </a:r>
            <a:r>
              <a:rPr b="0" lang="ru-RU" sz="1800" spc="-1" strike="noStrike">
                <a:solidFill>
                  <a:srgbClr val="800080"/>
                </a:solidFill>
                <a:latin typeface="Arial"/>
                <a:ea typeface="Arial"/>
              </a:rPr>
              <a:t> ступ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3429000"/>
            <a:ext cx="40323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Arial"/>
                <a:ea typeface="Arial"/>
              </a:rPr>
              <a:t>Школы, содействующие укреплению здоров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III </a:t>
            </a:r>
            <a:r>
              <a:rPr b="0" lang="ru-RU" sz="1800" spc="-1" strike="noStrike">
                <a:solidFill>
                  <a:srgbClr val="800080"/>
                </a:solidFill>
                <a:latin typeface="Arial"/>
                <a:ea typeface="Arial"/>
              </a:rPr>
              <a:t>ступ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12000" y="2205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III </a:t>
            </a:r>
            <a:r>
              <a:rPr b="0" lang="ru-RU" sz="1800" spc="-1" strike="noStrike">
                <a:solidFill>
                  <a:srgbClr val="ff9900"/>
                </a:solidFill>
                <a:latin typeface="Arial"/>
                <a:ea typeface="Arial"/>
              </a:rPr>
              <a:t>мод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9280" y="2205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I </a:t>
            </a:r>
            <a:r>
              <a:rPr b="0" lang="ru-RU" sz="1800" spc="-1" strike="noStrike">
                <a:solidFill>
                  <a:srgbClr val="ff9900"/>
                </a:solidFill>
                <a:latin typeface="Arial"/>
                <a:ea typeface="Arial"/>
              </a:rPr>
              <a:t>мод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35280" y="2637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II </a:t>
            </a:r>
            <a:r>
              <a:rPr b="0" lang="ru-RU" sz="1800" spc="-1" strike="noStrike">
                <a:solidFill>
                  <a:srgbClr val="ff9900"/>
                </a:solidFill>
                <a:latin typeface="Arial"/>
                <a:ea typeface="Arial"/>
              </a:rPr>
              <a:t>мод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780720" y="1268280"/>
            <a:ext cx="576360" cy="136872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56000" y="1268280"/>
            <a:ext cx="576360" cy="1368720"/>
          </a:xfrm>
          <a:prstGeom prst="rtTriangl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08720" y="1268280"/>
            <a:ext cx="576000" cy="1368720"/>
          </a:xfrm>
          <a:prstGeom prst="rtTriangle">
            <a:avLst/>
          </a:prstGeom>
          <a:solidFill>
            <a:srgbClr val="7b46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931640" y="1268280"/>
            <a:ext cx="576360" cy="1368720"/>
          </a:xfrm>
          <a:prstGeom prst="rtTriangl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204360" y="1268280"/>
            <a:ext cx="576360" cy="1368720"/>
          </a:xfrm>
          <a:prstGeom prst="rtTriangl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84720" y="260280"/>
            <a:ext cx="2303640" cy="1008000"/>
          </a:xfrm>
          <a:prstGeom prst="wedgeRectCallout">
            <a:avLst>
              <a:gd name="adj1" fmla="val -70055"/>
              <a:gd name="adj2" fmla="val 10055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1280" y="260280"/>
            <a:ext cx="1871640" cy="432000"/>
          </a:xfrm>
          <a:prstGeom prst="wedgeRectCallout">
            <a:avLst>
              <a:gd name="adj1" fmla="val 43467"/>
              <a:gd name="adj2" fmla="val 266546"/>
            </a:avLst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28720" y="26028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Центр ССЗ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49520" y="333360"/>
            <a:ext cx="237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  <a:ea typeface="Arial"/>
              </a:rPr>
              <a:t>Оздоровитель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  <a:ea typeface="Arial"/>
              </a:rPr>
              <a:t>цент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5013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4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06560" y="3429000"/>
            <a:ext cx="7129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2997360"/>
            <a:ext cx="3816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Arial"/>
                <a:ea typeface="Arial"/>
              </a:rPr>
              <a:t>Школы здоров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IV</a:t>
            </a:r>
            <a:r>
              <a:rPr b="0" lang="ru-RU" sz="1800" spc="-1" strike="noStrike">
                <a:solidFill>
                  <a:srgbClr val="800080"/>
                </a:solidFill>
                <a:latin typeface="Arial"/>
                <a:ea typeface="Arial"/>
              </a:rPr>
              <a:t> ступ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39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0621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90792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балл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3500280"/>
            <a:ext cx="7129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Первая модель  Школы здоровь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218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Школа, в которо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создана или создается единая система здоровьесбережени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внедряются инновационные образовательные программы и технологии, интегрирующие образовательные и оздоровительно-профилактические компоненты, направленные на сохранение и повышение работоспособности учащихс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проводится работа по формированию культуры здоровья учащихся на всех этапах обуч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Медицинскую помощь детям должны осуществлять школьный врач и школьная медицинская сестра –сотрудники отделения организации медицинской помощи в ОУ, т.е. сотрудники детского амбулаторно-поликлинического учреж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Вторая модель  Школы здоровь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В составе  такой школы работает 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«Центр содействия сохранению здоровья обучающихся»,</a:t>
            </a: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 отвечающий требованиям  приказа Министерства образования РФ от 15 мая 2000г. № 1418 «Об утверждении Примерного Положения О Центре содействия укреплению здоровья обучающихся, воспитанников образовательного учреждения»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Штат «Центр содействия сохранению здоровья обучающихся» (ССЗО) 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не предполагает</a:t>
            </a: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 наличие 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медицинских работников (сотрудников центра) и лицензии на медицинскую деятельность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Вторая модель  Школы здоровь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Имея дополнительное финансирование (10-15%), Школа здоровья обеспечивает деятельность Центра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содействия сохранению здоровья обучающихся»,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(ССЗО), в т.ч. и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оздоровительную работу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, предполагающую систему эффективных закаливающих процедур, комплекс психогигиенических мероприятий, рациональную организацию двигательной активности и питания учащихся и др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Вторая модель  Школы здоровь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Основными целями Центра (ССЗО) являютс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- содействие администрации и педагогическому коллективу образовательного учреждения в создании условий, гарантирующих охрану и укрепление физического, психического и социального здоровья обучающихся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- содействие всем участникам образовательного процесса в приобретении знаний, умений, навыков, необходимых для формирования устойчивой мотивации на здоровье и здоровый образ жизн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1T11:52:14Z</dcterms:created>
  <dc:creator>Дмитрий</dc:creator>
  <dc:description/>
  <dc:language>en-US</dc:language>
  <cp:lastModifiedBy>Ира</cp:lastModifiedBy>
  <dcterms:modified xsi:type="dcterms:W3CDTF">2010-12-01T21:37:45Z</dcterms:modified>
  <cp:revision>334</cp:revision>
  <dc:subject/>
  <dc:title>Слайд 1</dc:title>
</cp:coreProperties>
</file>