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5E9-1746-4FD3-BAD8-369C2F66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2E3-B45C-4951-9DCE-726304F2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293-BCAC-4D87-84EE-1FAA6762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480-47A8-411E-9398-CAB6129A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F83-8ADC-4F94-92BC-CF95BEBB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5D4-5B42-41A8-833A-83494457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F75-45C9-429D-8503-1D6EA573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F3C-CD95-46A5-A415-0D4BBA1C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9AF-C1F7-4570-B3E0-E0584BC1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321-E265-4FEE-8DE0-9A821064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FD9-131C-46DD-B55E-656DEAEA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40F-9204-4FC3-A35E-56E65AD5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70DA-3277-4F44-85B8-4B7039C781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80920" y="1027080"/>
            <a:ext cx="61549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Формирование культуры здоровья у обучающихся: проблемы и пути их реш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246852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85160" y="3811680"/>
            <a:ext cx="633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Futuris"/>
              </a:rPr>
              <a:t>Фарис Фахразович Хари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Futuris"/>
              </a:rPr>
              <a:t>член-корр. РАО,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д.п.н., профессор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Futuris"/>
              </a:rPr>
              <a:t>Руководитель Центра здоровьесберегаю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Futuris"/>
              </a:rPr>
              <a:t>образовательных технолог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Futuris"/>
              </a:rPr>
              <a:t>Федерального институ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Futuris"/>
              </a:rPr>
              <a:t>развития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0200" y="609120"/>
            <a:ext cx="59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.Вересаев о здоровье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01640" y="228096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"С ним не страшны никакие испытания, его потерять – значит потерять всё; без него нет ни свободы, нет независимости; человек становится рабом окружающих людей и обстановки; оно высшее и необходимое благо,  а между тем удержать его так трудно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787320" y="3038400"/>
            <a:ext cx="805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Futuris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85800" y="6091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.В. Ломоносов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266560"/>
            <a:ext cx="81439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24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Начало сего полагаю самым главным делом: сохранением и размножением Российского народа, в чем состоит величество, могущество и богатство всего государства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80920" y="609120"/>
            <a:ext cx="624852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ослании Федеральному Собранию РФ президент страны Дмитрий Анатольевич Медведев отметил, чт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3195360"/>
            <a:ext cx="7345440" cy="26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"стратегический приоритет политики в сфере детства – это формирование и развитие ценностей здорового образа жизни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12.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2300040"/>
            <a:ext cx="7772400" cy="38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24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формирующий подход рассматривает здоровье в целостности его физического, психического и духовного статуса, тем самым задает вектор сопровождения образовательного процесса в парадигме здоровья личности в цел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57240" y="609120"/>
            <a:ext cx="570060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ь формирования культуры здоровья у обучающихся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676240"/>
            <a:ext cx="777240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24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и совершенствование личности, повышение качества образования и духовно- нравственного, физического, психологического здоров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03320" y="609120"/>
            <a:ext cx="565452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ундаментальной идеей формирования культуры здоровья являетс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16240"/>
            <a:ext cx="7772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смотрение данной проблемы в контексте общих задач образования и в частности повышения качества обучения и воспитания подрастающего покол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82360" y="457200"/>
            <a:ext cx="5837400" cy="17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цептуальные позиции формирования культуры здоровья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енаправленный характер учебно-воспитательного процесса по формированию культуры здоровья у обучаю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остность и системность процесса формирования культуры здоровья у обучаю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 здоровьеформирующей образовательной среды и использование ее педагогических возможно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теграция ценностей культуры здоровья в содержание образования и использование здоровьесберегаюших технолог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тие двигательной активности и учет индивидуально-личностных возможностей обучаю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влечение всех участников образовательного процесса в разнообразные формы деятельности по сохранению и укреплению здоровь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44480" y="404280"/>
            <a:ext cx="5995800" cy="23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направления деятельности образовательных учреждений по формированию культуры здоровья у обучающих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учение культуре здоровья обучающихся на всех уровнях образовательного процес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филактическая деятельность образовательных учрежде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доровьеформирующая деятельность образовательных учрежд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60680" y="669600"/>
            <a:ext cx="5897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 приоритеты здоровьеформирующего подхода в системе образования: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364840"/>
            <a:ext cx="8043840" cy="40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глубление и расширение знаний обучающихся о здоровь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ование учебной нагруз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циональная организация процесса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ние благоприятного психологического клима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тивизация воспитательного воздействия образования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статуса предмета физическ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развитие двигательной актив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8:09:42Z</dcterms:created>
  <dc:creator>Дмитрий</dc:creator>
  <dc:description/>
  <dc:language>en-US</dc:language>
  <cp:lastModifiedBy>User </cp:lastModifiedBy>
  <dcterms:modified xsi:type="dcterms:W3CDTF">2010-12-01T13:29:27Z</dcterms:modified>
  <cp:revision>77</cp:revision>
  <dc:subject/>
  <dc:title>Министерство образования и науки РФ </dc:title>
</cp:coreProperties>
</file>