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D2E-6C63-4AA0-81B9-E059658E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49D-0D2E-4874-85D1-EE21236B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0BD-6CC6-45C4-94CB-49E41313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F80-B8FC-4426-BDD5-ABB4C566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1BD24-DB71-4A04-AEDC-7A7E79FC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98D04-E62A-4EE1-9765-15EA0A3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2F275-B797-43BA-B0BF-1434890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F1A80-EE6D-4393-902C-BFE1A90C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6040F-886C-401E-B627-72FC776F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E33D-17E7-4E9F-9918-8BB43B82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AB865-FA91-4AAC-BFA9-88E29CB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4D5-FF24-4AE7-8838-E82C410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3802A-5BF9-4BA6-B633-00517D2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952FF-2564-4290-9F38-665081A0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8473F-0F20-457D-9E31-D5D9FC4F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0A28-0750-4C68-9E1B-05223838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2E7A9-6DAB-4C97-8033-96F8557E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54F-4910-4C8B-9975-65C3BBC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A74-FCCF-44F1-BA33-8FFD739E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F6D-B9BE-46FE-8514-3F86264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2C1-578C-40FE-88D8-AD7AA2A5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A84-4954-4689-B8FB-425199C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07E-0DF9-48B6-B6D5-1165A13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B4F-22D5-4030-9AA2-3A29087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CCA-1AB2-4C6C-B729-AE81D503D6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BBB-207D-4413-B343-1D0FB4DAF1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Unicode MS"/>
              </a:rPr>
              <a:t>Связь школы, содействующей укреплению здоровья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Unicode MS"/>
              </a:rPr>
              <a:t>с общественностью и муниципальной властью</a:t>
            </a:r>
            <a:br>
              <a:rPr sz="41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4761000"/>
            <a:ext cx="75214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У гимназия №12 г.Долгопрудный Московской об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м. директора, к.м.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пунова Наталья Олег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125360"/>
            <a:ext cx="8713080" cy="5695920"/>
            <a:chOff x="179280" y="1125360"/>
            <a:chExt cx="8713080" cy="5695920"/>
          </a:xfrm>
        </p:grpSpPr>
        <p:cxnSp>
          <p:nvCxnSpPr>
            <p:cNvPr id="119" name="_s96260"/>
            <p:cNvCxnSpPr>
              <a:stCxn id="120" idx="1"/>
              <a:endCxn id="121" idx="2"/>
            </p:cNvCxnSpPr>
            <p:nvPr/>
          </p:nvCxnSpPr>
          <p:spPr>
            <a:xfrm rot="10800000">
              <a:off x="4536360" y="3285360"/>
              <a:ext cx="1404000" cy="318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96261"/>
            <p:cNvCxnSpPr>
              <a:stCxn id="123" idx="3"/>
              <a:endCxn id="121" idx="2"/>
            </p:cNvCxnSpPr>
            <p:nvPr/>
          </p:nvCxnSpPr>
          <p:spPr>
            <a:xfrm flipV="1">
              <a:off x="3315960" y="3285720"/>
              <a:ext cx="1221480" cy="32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96262"/>
            <p:cNvCxnSpPr>
              <a:stCxn id="125" idx="1"/>
              <a:endCxn id="121" idx="2"/>
            </p:cNvCxnSpPr>
            <p:nvPr/>
          </p:nvCxnSpPr>
          <p:spPr>
            <a:xfrm rot="10800000">
              <a:off x="4536360" y="3285360"/>
              <a:ext cx="1043280" cy="2520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96264"/>
            <p:cNvCxnSpPr>
              <a:stCxn id="127" idx="1"/>
              <a:endCxn id="121" idx="2"/>
            </p:cNvCxnSpPr>
            <p:nvPr/>
          </p:nvCxnSpPr>
          <p:spPr>
            <a:xfrm rot="10800000">
              <a:off x="4536360" y="3285360"/>
              <a:ext cx="539280" cy="1810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96265"/>
            <p:cNvCxnSpPr>
              <a:stCxn id="129" idx="3"/>
              <a:endCxn id="121" idx="2"/>
            </p:cNvCxnSpPr>
            <p:nvPr/>
          </p:nvCxnSpPr>
          <p:spPr>
            <a:xfrm flipV="1">
              <a:off x="3850920" y="3285720"/>
              <a:ext cx="686520" cy="1938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96266"/>
            <p:cNvCxnSpPr>
              <a:stCxn id="131" idx="1"/>
              <a:endCxn id="121" idx="2"/>
            </p:cNvCxnSpPr>
            <p:nvPr/>
          </p:nvCxnSpPr>
          <p:spPr>
            <a:xfrm rot="10800000">
              <a:off x="4536360" y="3285360"/>
              <a:ext cx="755640" cy="77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96267"/>
            <p:cNvCxnSpPr>
              <a:stCxn id="133" idx="3"/>
              <a:endCxn id="121" idx="2"/>
            </p:cNvCxnSpPr>
            <p:nvPr/>
          </p:nvCxnSpPr>
          <p:spPr>
            <a:xfrm flipV="1">
              <a:off x="3929400" y="3285720"/>
              <a:ext cx="608400" cy="65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96268"/>
            <p:cNvSpPr/>
            <p:nvPr/>
          </p:nvSpPr>
          <p:spPr>
            <a:xfrm>
              <a:off x="179280" y="1125360"/>
              <a:ext cx="8713080" cy="21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БЩЕСТВЕННАЯ КОМИССИЯ ПО ЗДОРОВЬЮ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*Контроль за условиями обучения и воспитания учащихся;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*Планирование мероприятий по охране здоровья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* Распределение финансовых средств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96269"/>
            <p:cNvSpPr/>
            <p:nvPr/>
          </p:nvSpPr>
          <p:spPr>
            <a:xfrm>
              <a:off x="323640" y="3500280"/>
              <a:ext cx="3605400" cy="877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ОДИТЕЛИ УЧАЩИХСЯ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(5 чел. от класса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96270"/>
            <p:cNvSpPr/>
            <p:nvPr/>
          </p:nvSpPr>
          <p:spPr>
            <a:xfrm>
              <a:off x="5292360" y="3500280"/>
              <a:ext cx="3456000" cy="1127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редставители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ченического Совета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(1-2 ученика от 5-11 кл.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96271"/>
            <p:cNvSpPr/>
            <p:nvPr/>
          </p:nvSpPr>
          <p:spPr>
            <a:xfrm>
              <a:off x="611640" y="4724280"/>
              <a:ext cx="3239640" cy="9982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Зам. Директора по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чебно-воспитательной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абот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96272"/>
            <p:cNvSpPr/>
            <p:nvPr/>
          </p:nvSpPr>
          <p:spPr>
            <a:xfrm>
              <a:off x="5076360" y="4797360"/>
              <a:ext cx="3505320" cy="5965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Медицинский персонал</a:t>
              </a: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96274"/>
            <p:cNvSpPr/>
            <p:nvPr/>
          </p:nvSpPr>
          <p:spPr>
            <a:xfrm>
              <a:off x="5580000" y="5516640"/>
              <a:ext cx="2751480" cy="576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сихоло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_s96275"/>
            <p:cNvSpPr/>
            <p:nvPr/>
          </p:nvSpPr>
          <p:spPr>
            <a:xfrm>
              <a:off x="1258200" y="6272280"/>
              <a:ext cx="2057760" cy="549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Логопе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96276"/>
            <p:cNvSpPr/>
            <p:nvPr/>
          </p:nvSpPr>
          <p:spPr>
            <a:xfrm>
              <a:off x="5940360" y="6237360"/>
              <a:ext cx="2665800" cy="475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Бухгалте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187280" y="260280"/>
            <a:ext cx="66121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imes New Roman"/>
              </a:rPr>
              <a:t>АДМИНИСТРАЦИЯ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84000" y="476280"/>
            <a:ext cx="431640" cy="64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476280"/>
            <a:ext cx="576360" cy="64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18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хема взаимодействия школы, содействующей укреплению здоровья с административными структурам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о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268280"/>
            <a:ext cx="8966520" cy="5411520"/>
            <a:chOff x="0" y="1268280"/>
            <a:chExt cx="8966520" cy="5411520"/>
          </a:xfrm>
        </p:grpSpPr>
        <p:cxnSp>
          <p:nvCxnSpPr>
            <p:cNvPr id="139" name="_s87045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4478400" y="3768480"/>
              <a:ext cx="258480" cy="70920"/>
            </a:xfrm>
            <a:prstGeom prst="bentConnector3">
              <a:avLst>
                <a:gd name="adj1" fmla="val 4421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87046"/>
            <p:cNvCxnSpPr>
              <a:stCxn id="141" idx="0"/>
              <a:endCxn id="143" idx="2"/>
            </p:cNvCxnSpPr>
            <p:nvPr/>
          </p:nvCxnSpPr>
          <p:spPr>
            <a:xfrm flipV="1">
              <a:off x="4572360" y="2491560"/>
              <a:ext cx="1800" cy="2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87047"/>
            <p:cNvSpPr/>
            <p:nvPr/>
          </p:nvSpPr>
          <p:spPr>
            <a:xfrm>
              <a:off x="2268000" y="1268280"/>
              <a:ext cx="4605840" cy="1224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АДМИНИСТРАЦИЯ ГОРОД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нятие решений на уровне города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Решение конкретных        Выработка местной 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            вопросов                    политики и общее 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Финансовая поддержка         управление городом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87048"/>
            <p:cNvSpPr/>
            <p:nvPr/>
          </p:nvSpPr>
          <p:spPr>
            <a:xfrm>
              <a:off x="2340360" y="2707920"/>
              <a:ext cx="4462920" cy="9669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ПРОЕКТ «ЗДОРОВЫЕ ГОРОДА»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Координирующая и посредническая роль;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 пропаганда идей проект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87049"/>
            <p:cNvSpPr/>
            <p:nvPr/>
          </p:nvSpPr>
          <p:spPr>
            <a:xfrm>
              <a:off x="1908360" y="3933360"/>
              <a:ext cx="5469120" cy="7484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ШКОЛА, СОДЕЙСТВУЮЩА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КРЕПЛЕНИЮ ЗДОРОВ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7640" y="4941360"/>
              <a:ext cx="2378880" cy="731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Другие управления и ведомства администрации (ЖКХ, культура и др.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724280"/>
              <a:ext cx="2629440" cy="19555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МУЗ Центральная Городская Больн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Центр медицинской профилактики (медицинское обследование  и наблюдение, кадровое обеспечение, обучение персонала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87640" y="5660640"/>
              <a:ext cx="2377440" cy="1006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Управление социальной защиты и труд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оказание адресной помощи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2000" y="5949360"/>
              <a:ext cx="2808000" cy="730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С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(телевидение, газета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9080" y="5013000"/>
              <a:ext cx="2377440" cy="5763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ОБЩЕСТВЕННЫЕ ОРГАНИЗАЦ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5" idx="0"/>
              <a:endCxn id="140" idx="1"/>
            </p:cNvCxnSpPr>
            <p:nvPr/>
          </p:nvCxnSpPr>
          <p:spPr>
            <a:xfrm flipV="1">
              <a:off x="1314360" y="4307400"/>
              <a:ext cx="594360" cy="416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44" idx="0"/>
              <a:endCxn id="140" idx="3"/>
            </p:cNvCxnSpPr>
            <p:nvPr/>
          </p:nvCxnSpPr>
          <p:spPr>
            <a:xfrm flipH="1" flipV="1">
              <a:off x="7377120" y="4307400"/>
              <a:ext cx="399240" cy="63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8" idx="0"/>
              <a:endCxn id="140" idx="2"/>
            </p:cNvCxnSpPr>
            <p:nvPr/>
          </p:nvCxnSpPr>
          <p:spPr>
            <a:xfrm flipH="1" flipV="1">
              <a:off x="4642200" y="4681800"/>
              <a:ext cx="255240" cy="331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53" idx="2"/>
              <a:endCxn id="140" idx="1"/>
            </p:cNvCxnSpPr>
            <p:nvPr/>
          </p:nvCxnSpPr>
          <p:spPr>
            <a:xfrm>
              <a:off x="1098360" y="3068280"/>
              <a:ext cx="810360" cy="1239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55" idx="2"/>
              <a:endCxn id="140" idx="3"/>
            </p:cNvCxnSpPr>
            <p:nvPr/>
          </p:nvCxnSpPr>
          <p:spPr>
            <a:xfrm flipH="1">
              <a:off x="7377120" y="3309120"/>
              <a:ext cx="662040" cy="9990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0" y="1916280"/>
            <a:ext cx="2195640" cy="1152360"/>
          </a:xfrm>
          <a:prstGeom prst="rect">
            <a:avLst/>
          </a:prstGeom>
          <a:solidFill>
            <a:srgbClr val="66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правление Образова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(методическая помощ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финансовая поддержк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кадровое обеспечение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73640" y="2109960"/>
            <a:ext cx="1930320" cy="119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итет п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ёжно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е, спорт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уризм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724280"/>
            <a:ext cx="0" cy="12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PavlyuchkovaMS\Рабочий стол\обои 25.04\обои дети, люди\1256592532.jpg"/>
          <p:cNvPicPr/>
          <p:nvPr/>
        </p:nvPicPr>
        <p:blipFill>
          <a:blip r:embed="rId2"/>
          <a:stretch/>
        </p:blipFill>
        <p:spPr>
          <a:xfrm>
            <a:off x="1042920" y="1844640"/>
            <a:ext cx="6815160" cy="4365720"/>
          </a:xfrm>
          <a:prstGeom prst="rect">
            <a:avLst/>
          </a:prstGeom>
          <a:ln w="0">
            <a:noFill/>
          </a:ln>
        </p:spPr>
      </p:pic>
      <p:pic>
        <p:nvPicPr>
          <p:cNvPr id="159" name="Овал 1" descr=""/>
          <p:cNvPicPr/>
          <p:nvPr/>
        </p:nvPicPr>
        <p:blipFill>
          <a:blip r:embed="rId3"/>
          <a:stretch/>
        </p:blipFill>
        <p:spPr>
          <a:xfrm>
            <a:off x="30240" y="115920"/>
            <a:ext cx="45781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fa20"/>
                </a:solidFill>
                <a:latin typeface="Tahoma"/>
              </a:rPr>
              <a:t>Программа профилактики и охраны здоровья шк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Актуальнос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Национальная образовательная инициатива «Наша новая школа»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Реализация образовательных стандартов второго поколения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Ежегодное ухудшение состояния здоровья дет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07640" y="0"/>
            <a:ext cx="9036000" cy="6642000"/>
            <a:chOff x="107640" y="0"/>
            <a:chExt cx="9036000" cy="6642000"/>
          </a:xfrm>
        </p:grpSpPr>
        <p:cxnSp>
          <p:nvCxnSpPr>
            <p:cNvPr id="88" name="_s88068"/>
            <p:cNvCxnSpPr>
              <a:stCxn id="89" idx="1"/>
              <a:endCxn id="90" idx="2"/>
            </p:cNvCxnSpPr>
            <p:nvPr/>
          </p:nvCxnSpPr>
          <p:spPr>
            <a:xfrm rot="10800000">
              <a:off x="4608360" y="1556640"/>
              <a:ext cx="1259280" cy="477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88069"/>
            <p:cNvCxnSpPr>
              <a:stCxn id="92" idx="3"/>
              <a:endCxn id="90" idx="2"/>
            </p:cNvCxnSpPr>
            <p:nvPr/>
          </p:nvCxnSpPr>
          <p:spPr>
            <a:xfrm flipV="1">
              <a:off x="3965760" y="1557000"/>
              <a:ext cx="643320" cy="463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88070"/>
            <p:cNvCxnSpPr>
              <a:stCxn id="94" idx="1"/>
              <a:endCxn id="90" idx="2"/>
            </p:cNvCxnSpPr>
            <p:nvPr/>
          </p:nvCxnSpPr>
          <p:spPr>
            <a:xfrm rot="10800000">
              <a:off x="4608360" y="1556640"/>
              <a:ext cx="1187280" cy="385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88071"/>
            <p:cNvCxnSpPr>
              <a:stCxn id="96" idx="3"/>
              <a:endCxn id="90" idx="2"/>
            </p:cNvCxnSpPr>
            <p:nvPr/>
          </p:nvCxnSpPr>
          <p:spPr>
            <a:xfrm flipV="1">
              <a:off x="4464000" y="1557000"/>
              <a:ext cx="144720" cy="338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88072"/>
            <p:cNvCxnSpPr>
              <a:stCxn id="98" idx="1"/>
              <a:endCxn id="90" idx="2"/>
            </p:cNvCxnSpPr>
            <p:nvPr/>
          </p:nvCxnSpPr>
          <p:spPr>
            <a:xfrm rot="10800000">
              <a:off x="4608360" y="1556640"/>
              <a:ext cx="489600" cy="256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88073"/>
            <p:cNvCxnSpPr>
              <a:stCxn id="100" idx="3"/>
              <a:endCxn id="90" idx="2"/>
            </p:cNvCxnSpPr>
            <p:nvPr/>
          </p:nvCxnSpPr>
          <p:spPr>
            <a:xfrm flipV="1">
              <a:off x="4140360" y="1557000"/>
              <a:ext cx="469440" cy="2156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88074"/>
            <p:cNvCxnSpPr>
              <a:stCxn id="102" idx="1"/>
              <a:endCxn id="90" idx="2"/>
            </p:cNvCxnSpPr>
            <p:nvPr/>
          </p:nvCxnSpPr>
          <p:spPr>
            <a:xfrm rot="10800000">
              <a:off x="4608360" y="1556640"/>
              <a:ext cx="394920" cy="88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88075"/>
            <p:cNvCxnSpPr>
              <a:stCxn id="104" idx="3"/>
              <a:endCxn id="90" idx="2"/>
            </p:cNvCxnSpPr>
            <p:nvPr/>
          </p:nvCxnSpPr>
          <p:spPr>
            <a:xfrm flipV="1">
              <a:off x="3856680" y="1556640"/>
              <a:ext cx="753120" cy="835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" name="_s88076"/>
            <p:cNvSpPr/>
            <p:nvPr/>
          </p:nvSpPr>
          <p:spPr>
            <a:xfrm>
              <a:off x="1188000" y="0"/>
              <a:ext cx="6840000" cy="15573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0199"/>
                  </a:solidFill>
                  <a:latin typeface="Times New Roman"/>
                </a:rPr>
                <a:t>Основные блоки программ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0199"/>
                  </a:solidFill>
                  <a:latin typeface="Times New Roman"/>
                </a:rPr>
                <a:t>профилактики и охраны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0199"/>
                  </a:solidFill>
                  <a:latin typeface="Times New Roman"/>
                </a:rPr>
                <a:t>здоровья школьнико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88077"/>
            <p:cNvSpPr/>
            <p:nvPr/>
          </p:nvSpPr>
          <p:spPr>
            <a:xfrm>
              <a:off x="250920" y="1844640"/>
              <a:ext cx="3605400" cy="1093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Создание оптимальных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санитарно-гигиенических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словий обучения и воспит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88078"/>
            <p:cNvSpPr/>
            <p:nvPr/>
          </p:nvSpPr>
          <p:spPr>
            <a:xfrm>
              <a:off x="5003280" y="1773000"/>
              <a:ext cx="4140360" cy="134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рофилактика  возникновения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нарушения зрения и оздоровление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чащихся с миопией, предмиопией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и спазмом  аккомод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_s88079"/>
            <p:cNvSpPr/>
            <p:nvPr/>
          </p:nvSpPr>
          <p:spPr>
            <a:xfrm>
              <a:off x="323640" y="3141720"/>
              <a:ext cx="3816360" cy="1143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рофилактика утомления и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 нарушений нервно-психическо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здоровья у учащихс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88080"/>
            <p:cNvSpPr/>
            <p:nvPr/>
          </p:nvSpPr>
          <p:spPr>
            <a:xfrm>
              <a:off x="5098320" y="3429000"/>
              <a:ext cx="4045320" cy="13888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птимизация двигательного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 режима и профилактика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возникновения нарушений опорно-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двигательного  аппарата</a:t>
              </a: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_s88081"/>
            <p:cNvSpPr/>
            <p:nvPr/>
          </p:nvSpPr>
          <p:spPr>
            <a:xfrm>
              <a:off x="107640" y="4365720"/>
              <a:ext cx="4356360" cy="1141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бразовательная работа с учащимися,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направленная на формирование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ценности  здоровья и ЗО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_s88082"/>
            <p:cNvSpPr/>
            <p:nvPr/>
          </p:nvSpPr>
          <p:spPr>
            <a:xfrm>
              <a:off x="5796000" y="5013360"/>
              <a:ext cx="2750040" cy="792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рганизация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ационального пит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88083"/>
            <p:cNvSpPr/>
            <p:nvPr/>
          </p:nvSpPr>
          <p:spPr>
            <a:xfrm>
              <a:off x="323640" y="5734080"/>
              <a:ext cx="3642120" cy="90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бразовательная работа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с педагогическим коллективо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_s88084"/>
            <p:cNvSpPr/>
            <p:nvPr/>
          </p:nvSpPr>
          <p:spPr>
            <a:xfrm>
              <a:off x="5867640" y="6021360"/>
              <a:ext cx="2664360" cy="62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абота с семьё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ПТИМИЗАЦИЯ ДВИГАТЕЛЬНОГО РЕЖИМА и ПРОФИЛАКТИКА ВОЗНИКНОВЕНИЯ НАРУШЕНИЙ ОПОРНО-ДВИГАТЕЛЬНОГО АППАР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большие перемены по 20 минут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едение дополнительных уроков, предполагающих двигательную активность:</a:t>
            </a:r>
            <a:br>
              <a:rPr sz="2000"/>
            </a:b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1-4 классы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урока – физкультуры, 2 урока – ЛФК, 1 урок – хореография;</a:t>
            </a:r>
            <a:br>
              <a:rPr sz="2000"/>
            </a:b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5 класс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 урока – физкультура, 1 урок – ЛФК;</a:t>
            </a:r>
            <a:br>
              <a:rPr sz="2000"/>
            </a:b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6-11 классы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3 урока – физкультур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ая неделя (5 дней в середине февраля)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ыжи, санки, коньки, ориентирование, эстафеты, плава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раз в триместр Дни здоровья (игровые виды спорта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ссаж (по показаниям врач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Профилактика утомления и нарушения нервно-психического здоровья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197000"/>
          <a:ext cx="9109080" cy="5599080"/>
        </p:xfrm>
        <a:graphic>
          <a:graphicData uri="http://schemas.openxmlformats.org/drawingml/2006/table">
            <a:tbl>
              <a:tblPr/>
              <a:tblGrid>
                <a:gridCol w="2843280"/>
                <a:gridCol w="2948040"/>
                <a:gridCol w="3317760"/>
              </a:tblGrid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Цель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Используемое оборуд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антистрессово-релакс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нятие мышечного и психоэмоционального напряжения, достижение состояния душевного равновес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ухой бассейн, звёздный дождь, музыкальное сопровождение, генератор запах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вития тактильной чувствительности и кинестетических функц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витие кинестетического канала восприятия, осязательных, обонятельных, двигательных функц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ресла-«груши», сухой бассейн, занавесь из фибро-оптических волокон, звёздный дождь, мягкий пол, генератор запах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бщеукрепляющая профилактическ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оздание положительного эмоционального фо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сё оборудование в различных сочетаниях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280" y="6237360"/>
            <a:ext cx="7885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АСИР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79280"/>
            <a:ext cx="4516200" cy="616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imes New Roman"/>
              </a:rPr>
              <a:t>ОБРАЗОВАТЕЛЬН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Учащиеся школ нового ви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грамма «Здоровье» под ред. В.Н.Касаткина, Л.А.Щепляг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Медицинский персонал Детских пол-к гор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икл тематического усовершенствования «Вопросы охраны здоровья детей и подростков» (144 ч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Педагогический коллекти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-ти часовой курс обучения «Здоровье школьник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жегодный инструктаж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Родит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атические родительские собр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дивидуальные консультации по итогам медицинских осмот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е с ребёнком выполнение практических домашних заданий по программе «Здоровь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лечение к участию в Днях здоровья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ой неделе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общественной комиссии «Здоровь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Риск развития заболеваний среди младших шк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Медико-биологические факторы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62,5%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в группе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овышенного риска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Факторы раннего детства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78,1%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 в группе настороженности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Факторы образа жизни: 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98,1%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 в группе настороженно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спространённость поведенческих факторов риска среди родителей младших школьников (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8720" y="1708200"/>
          <a:ext cx="68310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8720" y="1708200"/>
                    <a:ext cx="68310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2:24:07Z</dcterms:created>
  <dc:creator>Измайлов</dc:creator>
  <dc:description/>
  <dc:language>en-US</dc:language>
  <cp:lastModifiedBy>User</cp:lastModifiedBy>
  <dcterms:modified xsi:type="dcterms:W3CDTF">2010-12-01T22:00:46Z</dcterms:modified>
  <cp:revision>67</cp:revision>
  <dc:subject/>
  <dc:title>Гигиеническая оценка оздоровления учащихся школ нового вида как составной части проекта ВОЗ «Здоровые города»  (на примере г.Долгопрудного Московской области)</dc:title>
</cp:coreProperties>
</file>