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B3E-A0F7-467E-ADC3-319C11B5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E1C-77B6-4EF4-9F26-9B6F3796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993-3B16-4ACE-8DC1-6D1F9F90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75C-E93C-4147-A67A-3947AA74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FE7-ABB4-402F-AFE5-311BB990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B8A-0B8A-4B56-87F6-FC085785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472-DD07-4BF9-9884-8E2834B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A70-18EA-483E-97F1-8407AAC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8DE-3657-46A1-86A6-C287123E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D96-B38E-4A81-99C2-E951703E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663-56E9-42DC-9D66-687E9247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6D4-A39D-418F-8C5B-5D2411F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E34-E9D3-4B98-9057-F596A85E5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SCN0711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И ГИГИЕНЫ И ОХРАНЫ ЗДОРОВЬЯ ДЕТЕЙ 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1560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В.Чуба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ЦИАЛЬНО-ПСИХОЛОГИЧЕСКИЕ АСПЕКТЫ ОХРАНЫ И УКРЕПЛЕНИЯ ЗДОРОВЬ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СКВА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914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ЫЙ ЦЕНТР ЗДОРОВЬЯ ДЕТЕЙ РАМ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ЕДУЩИЕ МАКРОСОЦИАЛЬНЫЕ ФАКТОРЫ РИСКА ПСИХИЧЕСКОЙ ДЕЗАДАПТАЦИ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зкое расслоение общества по материальному призна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нищание значительных социальных групп, в том числе отвечающих за охрану здоровья и формирование личности детей и подрос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общепризнанных нравственно-этических общественных ценностей и противоречивые представления о социально одобряемых формах и способах психической адаптации формирующейся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спад общественных организаций, осуществлявших как педагогические функции, так и организацию свободного времени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райне негативного влияния средств массовой информации, пропагандирующих зачастую криминальные ценности, насилие, перверзные формы сексуального поведения, терпимого отношения к употреблению ряда психоактивных вещест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вязчивая реклама алкоголя, табакокур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звитие индустрии развлечений, в частности, широкое распространение игровых салонов, стимулирующих патологические формы зависимости от азартных иг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эффективного медико-психологического контроля над преобразованиями в образовательной сфере, ведущих к резкому увеличению информационной нагрузки и  психоэмоциональному перенапряж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гативные тенденции состояния психического здоровья части педагогов и увеличение значения дидактогений в психической дезадаптаци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F435-7BAF-4281-9545-32D1C859E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едущие микросоциальные факторы влияющие на психосоциальное благополучие 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утрисемейные –специфика воспитания, структура семьи, отношения родителей, алкоголизм родителей, материальное положение, наличие симблингов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школьной обучающей и формирующей личность среды – отношение ребёнка с педагогами, состояние здоровья преподавателей, ролевые отношения в формальной микрогруппе, успеваемость, соответствие интеллектуальной нагрузки психофизиологическим возможностям ребёнка, психологический климат в педагогическом коллективе,  наличие доминирующих ценностных ориентиров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неформальной микрогруппы – организация свободного времени ребёнка, участие в неформальных подростковых группировках с признаками «автономной морали», ролевые функции ребёнка, чрезмерные интеллектуальные нагрузки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ЧНОСТНЫЕ ОСОБЕННОСТИ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ояние психического и физического здоровья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психотипа (преморбидные свой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психофизиологического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высших психических (духовных) сиойств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еделение старших подростков -учащихся школы «Лукоморье» и обычных школ на группы здоров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619280" y="1341360"/>
          <a:ext cx="648180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648180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ПОГРАНИЧНЫХ ПСИХИЧЕСКИХ РАССТРОЙСТВ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071720"/>
          <a:ext cx="8569080" cy="5322600"/>
        </p:xfrm>
        <a:graphic>
          <a:graphicData uri="http://schemas.openxmlformats.org/drawingml/2006/table">
            <a:tbl>
              <a:tblPr/>
              <a:tblGrid>
                <a:gridCol w="1979640"/>
                <a:gridCol w="433080"/>
                <a:gridCol w="435240"/>
                <a:gridCol w="434880"/>
                <a:gridCol w="433440"/>
                <a:gridCol w="434880"/>
                <a:gridCol w="652320"/>
                <a:gridCol w="650880"/>
                <a:gridCol w="522360"/>
                <a:gridCol w="503280"/>
                <a:gridCol w="504720"/>
                <a:gridCol w="503280"/>
                <a:gridCol w="576360"/>
                <a:gridCol w="504720"/>
              </a:tblGrid>
              <a:tr h="326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невротического 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тические реакци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3.2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3.3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ы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0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1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36-3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8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характерологические реакции 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ии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4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9 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пограничной психических расстройств и расстройств поведения в школе здоровья «Лукоморье» и традиционных школах (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601640" y="1522440"/>
          <a:ext cx="579600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22440"/>
                    <a:ext cx="579600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АКЦЕНТУАЦИЙ ХАРАКТЕРА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28760" y="1214280"/>
          <a:ext cx="8429400" cy="5438880"/>
        </p:xfrm>
        <a:graphic>
          <a:graphicData uri="http://schemas.openxmlformats.org/drawingml/2006/table">
            <a:tbl>
              <a:tblPr/>
              <a:tblGrid>
                <a:gridCol w="1743840"/>
                <a:gridCol w="537120"/>
                <a:gridCol w="537480"/>
                <a:gridCol w="480240"/>
                <a:gridCol w="469440"/>
                <a:gridCol w="470880"/>
                <a:gridCol w="537120"/>
                <a:gridCol w="537480"/>
                <a:gridCol w="465840"/>
                <a:gridCol w="464760"/>
                <a:gridCol w="537120"/>
                <a:gridCol w="537120"/>
                <a:gridCol w="466200"/>
                <a:gridCol w="523080"/>
                <a:gridCol w="125280"/>
              </a:tblGrid>
              <a:tr h="352440">
                <a:tc rowSpan="2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акцен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стойчи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ор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и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астен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ер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-лаби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и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gridSpan="15"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акцентуаций характера среди учащихся обычных школ, профессионального училища и школы здоровья «Лукоморье»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>
            <a:alphaModFix amt="99000"/>
          </a:blip>
          <a:stretch/>
        </p:blipFill>
        <p:spPr>
          <a:xfrm>
            <a:off x="1332000" y="1557360"/>
            <a:ext cx="6480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А, СОДЕЙСТВУЮЩАЯ УКРЕПЛЕНИЮ ЗДОРОВЬЯ: ОТ ДЕКЛАРАЦИИ ДО ДЕЙСТВИЙ И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ЦЕПЦИЯ (Кучма В.Р. – 200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ТРОЕНИЕ УЧЕБНОГО ПРОЦЕССА НА ПРИНЦИПАХ ВЗАИМОУВАЖЕНИЯ ПЕДАГОГОВ 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ИРОВАНИЕ КУЛЬТУРЫ ЗДОРОВЬЯ ПЕДАГОГОВ 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ЕРШЕНСТВОВАНИЕ СОЦИАЛЬНОГО ПАРТНЁРСТВА В СИСТЕМЕ «ПЕДАГОГ-УЧАЩИЙСЯ-РОДИТЕЛ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326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стояние психосоциального здоровья подрастающего поколения страны требует разработки и осуществления экстренных, комплексных, межотраслевых мероприятий по его укреплению на макросоциальном, микросоциальном и личност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дложенная и апробированная медико-психолого-педагогической модель  школы здоровья «Лукоморье» обеспечивает эффективную психопрофилактику в отношении пограничной психической патологии и гармоничного протекания пубертатного кри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ждисциплинарность проблем охраны психосоциального здоровья учащихся требует разработки и внедрения в программы подготовки специалистов медиков, педагогов, психологов, социологов расширенных разделов по особенностям проявления, профилактики и коррекции  различных форм психической дезадаптации детей 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РЕДЕЛЕНИЕ ПОНЯТИЯ «ЗДОР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доровье - это состояние полного физического,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уховного и социального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получия» -преамбула устава ВОЗ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Зеленый камень"/>
          <p:cNvPicPr/>
          <p:nvPr/>
        </p:nvPicPr>
        <p:blipFill>
          <a:blip r:embed="rId1"/>
          <a:stretch/>
        </p:blipFill>
        <p:spPr>
          <a:xfrm>
            <a:off x="0" y="0"/>
            <a:ext cx="1909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Зеленый камень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SCN0751"/>
          <p:cNvPicPr/>
          <p:nvPr/>
        </p:nvPicPr>
        <p:blipFill>
          <a:blip r:embed="rId3"/>
          <a:stretch/>
        </p:blipFill>
        <p:spPr>
          <a:xfrm>
            <a:off x="1909800" y="0"/>
            <a:ext cx="50356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324000" y="3716280"/>
            <a:ext cx="8424720" cy="29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Спешите делать доб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50840"/>
            <a:ext cx="10896480" cy="8102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-459000"/>
            <a:ext cx="8316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NEQUALITIES IN YOUNG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PEOPLE`S YEALTH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Health Behaviour in School-Aged Children Study: WHO Collaborative 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Cross-National Study</a:t>
            </a:r>
            <a:br>
              <a:rPr sz="36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International report from the 2005/2006 survey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ЗДОРОВЬЕ И ПОВЕДЕНИЕ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ДЕТЕЙ ШКОЛЬНОГО ВОЗРАСТ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HO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BSC_IR_ Cover"/>
          <p:cNvPicPr/>
          <p:nvPr/>
        </p:nvPicPr>
        <p:blipFill>
          <a:blip r:embed="rId2"/>
          <a:stretch/>
        </p:blipFill>
        <p:spPr>
          <a:xfrm>
            <a:off x="971640" y="4941720"/>
            <a:ext cx="1373040" cy="194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516720" y="63817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EE9-467C-470F-9883-58CDA5560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ых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запугивали по крайней мере 2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56360" y="215748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0C13-AB06-4F91-A0DE-B1A71755F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ые употребляли гашиш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30-ти дне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284720" y="2997360"/>
            <a:ext cx="107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C55-80F6-4666-BB94-50BB92029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вовлечённых в драки по крайней мере 3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12-ти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24360" y="208440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E9F-E4D8-4572-AD57-F9BC9E15E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у которых было сексуальное общение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27640" y="213372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BE7B-57C3-4649-ABE4-841B31AE4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исло абортов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7 г. – 1,4 млн. (10% - у подрост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07 г. у 15-ти летних девочек состоялись 2.441 роды и 700 аб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ogo"/>
          <p:cNvPicPr/>
          <p:nvPr/>
        </p:nvPicPr>
        <p:blipFill>
          <a:blip r:embed="rId1"/>
          <a:stretch/>
        </p:blipFill>
        <p:spPr>
          <a:xfrm>
            <a:off x="3564000" y="3645000"/>
            <a:ext cx="188604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F4D0-DE6E-4FCC-B32A-60CDA2211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феры определяющие состояние психического благополучия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чностная – психобиолог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28:20Z</dcterms:created>
  <dc:creator>Могильнер В.А.</dc:creator>
  <dc:description/>
  <dc:language>en-US</dc:language>
  <cp:lastModifiedBy>Чубаровский</cp:lastModifiedBy>
  <dcterms:modified xsi:type="dcterms:W3CDTF">2010-12-02T06:37:35Z</dcterms:modified>
  <cp:revision>83</cp:revision>
  <dc:subject/>
  <dc:title>Слайд 1</dc:title>
</cp:coreProperties>
</file>