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B85-58E1-4C64-82F6-11FBE2EA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BA7-1EF9-45C2-8606-7449DCC8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FB7-DF54-484C-96B5-FE8D8DBA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879-7995-4D11-9983-3ACC4546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3349-06F1-4CF0-B34F-30D55EE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A61-0554-4993-BA60-63978BA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9C4-09BC-4BF4-BA18-08A7331F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35DA-9B4B-431E-B5FB-DF6BA6C8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539-C04E-4B80-9BE6-CC802F7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3FDA-1ACE-425F-A26C-28A2085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FC71-C42D-4061-8EEA-5BBD633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981-013B-4938-8DEB-0B44425A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BEEF-AD17-43D9-9610-5462E31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542-EC06-4E7C-A989-57AAEB2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789-1F8E-43D1-9AB5-AD22798B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572A-F07C-499A-93F1-D002DAAD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E44E-5861-4DB8-9316-6A4EF86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00F-967A-4EB3-B80C-03788C77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988-59FE-4714-87DF-D27A19B8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6E2-D80A-47DB-84F1-4DAC598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600-741F-4F39-B284-11484260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937-BB58-486A-90AC-7ACE2A5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F7E-A2AB-440F-8596-8524389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418-33D2-4705-B933-12535F0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AB2-C241-4279-B5BD-E16E2180F3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614-E403-4895-9A9B-3460CCA958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989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формированность здорового образа жизни учащихся как основа охраны и укрепления здоровья  детей и подростков в образовательных учреждениях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6560" y="4292640"/>
            <a:ext cx="831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вездина И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ИИ гигиены и охраны здоровья детей и подростков НЦЗД РАМН, 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пространенность регулярного кур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среди школьников 13-15 лет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оссийская Федерация,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YT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989000"/>
          <a:ext cx="918360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8360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405080" y="155736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ред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реги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4160" y="17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72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пространенность «раннего» кур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(в возрасте до 10 лет)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оссийская Федерация,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YT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989000"/>
          <a:ext cx="918360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8360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05080" y="155736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ред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реги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4160" y="17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272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Распространенность курения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среди младших школьников и их родителей (%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0" y="914400"/>
          <a:ext cx="58672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867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534240" y="249552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коль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52800" y="12193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9560" y="114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943600" y="1371600"/>
            <a:ext cx="2971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урение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фицит массы 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функциональные отклонения пищевари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олезни нерв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рушения адапт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р≤0,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трелка вниз 7"/>
          <p:cNvSpPr/>
          <p:nvPr/>
        </p:nvSpPr>
        <p:spPr>
          <a:xfrm>
            <a:off x="7135920" y="1828800"/>
            <a:ext cx="331560" cy="68580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вязь курения и отдельных групп функциональных нарушений, хронических болезней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подростковом возрасте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543480" y="1197000"/>
            <a:ext cx="251460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С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72080" y="2739960"/>
            <a:ext cx="205740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5140440"/>
            <a:ext cx="2286000" cy="726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ллерг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159696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399744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-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743200"/>
            <a:ext cx="2286000" cy="98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менструаль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1144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90920"/>
            <a:ext cx="2514600" cy="606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болезни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429000"/>
            <a:ext cx="2514600" cy="6825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454640"/>
            <a:ext cx="2514600" cy="80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обменны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68648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0060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1508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15000" y="22824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00880" y="2168640"/>
            <a:ext cx="10285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29480" y="31971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29480" y="33116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9480" y="34257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3654360"/>
            <a:ext cx="1028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15080" y="388296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88296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200040" y="194004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200400" y="2053800"/>
            <a:ext cx="102888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200400" y="216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200040" y="28540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200040" y="27396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0400" y="3425760"/>
            <a:ext cx="571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00400" y="3540240"/>
            <a:ext cx="571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00040" y="365436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3654360"/>
            <a:ext cx="9144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200400" y="3768840"/>
            <a:ext cx="9144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5105520"/>
            <a:ext cx="2057400" cy="14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52578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571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5867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6324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64771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61722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-1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-1112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008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Распространённость употребления алкоголя среди старшеклассников 1995-2005 гг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1916280"/>
          <a:ext cx="400680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400680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67120" y="1916280"/>
          <a:ext cx="437688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1916280"/>
                    <a:ext cx="43768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98880" y="216000"/>
            <a:ext cx="328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Употребление алкоголя 2-3 раза в месяц и ча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вязь употребления алкоголя и отдельных групп функциональных нарушений, хронических болезней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у подростков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13508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С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2735280"/>
            <a:ext cx="3200400" cy="1481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АЛКОГ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5135400"/>
            <a:ext cx="2286000" cy="808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рг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1935000"/>
            <a:ext cx="25146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5280" y="4221000"/>
            <a:ext cx="25146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-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5280" y="2971800"/>
            <a:ext cx="2514600" cy="911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менструаль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480" y="216360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80" y="3306600"/>
            <a:ext cx="2514600" cy="571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5788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68648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5105520"/>
            <a:ext cx="2057400" cy="14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52578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57150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58672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3244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4771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61722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480" y="467820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ринно-обменные нару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629080" y="3421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29080" y="3535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400120" y="3763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8720" y="3878280"/>
            <a:ext cx="5713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28720" y="39924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57880" y="42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2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72280" y="4106880"/>
            <a:ext cx="11430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00880" y="41068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3992400"/>
            <a:ext cx="800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33066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3421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15000" y="2392200"/>
            <a:ext cx="800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29480" y="2620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629080" y="2735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628720" y="250632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628720" y="2277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1112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РАСПРОСТРАНЕННОСТЬ ПОВЕДЕНЧЕСКИХ ФАКТОРОВ РИСКА СРЕДИ УЧАЩИХСЯ МОСКОВСКИХ ШКОЛ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ЗА ПЕРИОД ОБУЧЕНИЯ (1-6 КЛАССЫ), 2005-200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42920" y="2060640"/>
          <a:ext cx="369576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36957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940360" y="1557360"/>
          <a:ext cx="29480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155736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940360" y="3213000"/>
          <a:ext cx="294804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213000"/>
                    <a:ext cx="29480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258920" y="3213000"/>
          <a:ext cx="294804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3213000"/>
                    <a:ext cx="29480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692360" y="1557360"/>
          <a:ext cx="2933640" cy="197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1557360"/>
                    <a:ext cx="29336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668320" y="2275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51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49760" y="2275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74,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4480" y="22759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ки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640" y="393300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бовали кур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36871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3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49760" y="3859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23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258920" y="4876920"/>
          <a:ext cx="2948040" cy="19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487692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940360" y="4876920"/>
          <a:ext cx="2948040" cy="198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487692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597040" y="5299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1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49760" y="551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25,1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5228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отребляют пиво, ви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 1 раза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83400" y="3212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83400" y="486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83400" y="65826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64840" y="3212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36480" y="486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64840" y="65826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6165720"/>
            <a:ext cx="97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≤0,01 – достоверность различи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между показателями в группа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младших школьников (1-2 кл.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и учащихся 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-ой ступени (5-6 кл.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9560" y="616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2133720"/>
            <a:ext cx="2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9920" y="37162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1640" y="5373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2852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508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48000" y="609300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ффективное образование в области здорового образа жизни должно привести к переоценке жизненных ценностей, появлению необходимых навыков,  изменению поведения и стиля жизни школьников и, в результате, снижению риска формирования заболе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НФОРМИРОВАННОСТЬ В ОТНОШЕНИИ ФАКТОРОВ РИСКА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РЕДИ МАЛЬЧИКОВ И ДЕВОЧЕК 8-11 КЛАССОВ МОСКОВСКИХ ШКОЛ (20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700360" y="1773360"/>
          <a:ext cx="595296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95296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5280" y="4437000"/>
          <a:ext cx="273204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437000"/>
                    <a:ext cx="27320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388548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95280" y="1916280"/>
          <a:ext cx="2732040" cy="18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91628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116000" y="34995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1720" y="594936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-11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60320" y="263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9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0320" y="5083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69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НФОРМИРОВАННОСТЬ В ОТНОШЕНИИ ФАКТОРОВ РИСКА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РЕДИ УЧАЩИХСЯ 8-11 КЛАССОВ МОСКОВСКИХ ШКОЛ (%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92360" y="1700280"/>
          <a:ext cx="61214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121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73456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0024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48400" y="529992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06440" y="1265400"/>
          <a:ext cx="55548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65400"/>
                    <a:ext cx="55548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697040" y="261288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0a01"/>
                </a:solidFill>
                <a:latin typeface="Arial"/>
              </a:rPr>
              <a:t>42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7400" y="285912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0a01"/>
                </a:solidFill>
                <a:latin typeface="Arial"/>
              </a:rPr>
              <a:t>57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22800" y="2743200"/>
            <a:ext cx="29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ее половины школьников не соблюдает здоровый образ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322280"/>
            <a:ext cx="2554560" cy="121932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ФОРМИРОВАННОСТЬ УСТАНОВОК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НА ЗДОРОВЫЙ ОБРАЗ ЖИЗНИ СРЕДИ МАЛЬЧИКОВ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 ДЕВОЧЕК 8-11 КЛАССОВ МОСКОВСКИХ ШКОЛ (%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700360" y="1773360"/>
          <a:ext cx="595296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95296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99960" y="4365720"/>
          <a:ext cx="2732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436572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8548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0496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95280" y="1916280"/>
          <a:ext cx="2732040" cy="18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91628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1258920" y="3499560"/>
            <a:ext cx="10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5949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-11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60320" y="263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2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60320" y="5083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2,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ВЯЗЬ ФАКТОРОВ, ОБУСЛОВЛЕННЫХ ОБРАЗОМ ЖИЗНИ ШКОЛЬНИКОВ, И УРОВНЯ ИНФОРМИРОВАННОСТИ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 СФОРМИРОВАННОСТИ УСТАНОВОК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НА ЗДОРОВЫЙ ОБРАЗ ЖИЗНИ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Скругленный прямоугольник 15"/>
          <p:cNvSpPr/>
          <p:nvPr/>
        </p:nvSpPr>
        <p:spPr>
          <a:xfrm>
            <a:off x="3851280" y="3068640"/>
            <a:ext cx="2160720" cy="1655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риска, обусловленные образом жизни шк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6659640" y="3357720"/>
            <a:ext cx="2274840" cy="1726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зкая степень сформирован-ности установок на ЗО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кругленный прямоугольник 14"/>
          <p:cNvSpPr/>
          <p:nvPr/>
        </p:nvSpPr>
        <p:spPr>
          <a:xfrm>
            <a:off x="900000" y="3429000"/>
            <a:ext cx="2057400" cy="1655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зкая степень информирован-ности в отношении факторов ри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6" idx="2"/>
            <a:endCxn id="335" idx="2"/>
          </p:cNvCxnSpPr>
          <p:nvPr/>
        </p:nvCxnSpPr>
        <p:spPr>
          <a:xfrm flipH="1" rot="16200000">
            <a:off x="4861800" y="2160360"/>
            <a:ext cx="2160" cy="5869800"/>
          </a:xfrm>
          <a:prstGeom prst="bentConnector3">
            <a:avLst>
              <a:gd name="adj1" fmla="val 13800000"/>
            </a:avLst>
          </a:prstGeom>
          <a:ln w="5076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5" idx="0"/>
            <a:endCxn id="334" idx="0"/>
          </p:cNvCxnSpPr>
          <p:nvPr/>
        </p:nvCxnSpPr>
        <p:spPr>
          <a:xfrm flipV="1" rot="16200000">
            <a:off x="6220800" y="1770480"/>
            <a:ext cx="289440" cy="2865960"/>
          </a:xfrm>
          <a:prstGeom prst="bentConnector3">
            <a:avLst>
              <a:gd name="adj1" fmla="val 175716"/>
            </a:avLst>
          </a:prstGeom>
          <a:ln w="50760">
            <a:solidFill>
              <a:srgbClr val="66ccff"/>
            </a:solidFill>
            <a:miter/>
            <a:headEnd len="med" type="arrow" w="med"/>
          </a:ln>
        </p:spPr>
      </p:cxnSp>
      <p:sp>
        <p:nvSpPr>
          <p:cNvPr id="339" name=""/>
          <p:cNvSpPr/>
          <p:nvPr/>
        </p:nvSpPr>
        <p:spPr>
          <a:xfrm flipH="1">
            <a:off x="2987280" y="3933720"/>
            <a:ext cx="863640" cy="0"/>
          </a:xfrm>
          <a:prstGeom prst="line">
            <a:avLst/>
          </a:prstGeom>
          <a:ln w="5400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011640" y="4076640"/>
            <a:ext cx="86508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информированности школьников в отношении факторов ри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у школьников установок на здоровый образ жи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распространенности факторов риска нарушения здоровья среди школь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708360" y="1523880"/>
            <a:ext cx="107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708360" y="3952800"/>
            <a:ext cx="1079640" cy="1152720"/>
          </a:xfrm>
          <a:prstGeom prst="downArrow">
            <a:avLst>
              <a:gd name="adj1" fmla="val 50000"/>
              <a:gd name="adj2" fmla="val 2669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44160" y="2420280"/>
            <a:ext cx="68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Благодарю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58920" y="2162160"/>
          <a:ext cx="734544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2160"/>
                    <a:ext cx="734544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029800" y="6021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720" y="20606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РАСПРОСТРАНЁННОСТЬ НИЗКОЙ ДВИГАТЕЛЬНОЙ АКТИВНОСТИ </a:t>
            </a:r>
            <a:br>
              <a:rPr sz="1600"/>
            </a:b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СРЕДИ УЧАЩИХСЯ 8-11 КЛАССОВ МОСКОВСКИХ ШКОЛ, 2010 (%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7360"/>
            <a:ext cx="820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Двигательная активность младших школьник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1800" y="3151080"/>
          <a:ext cx="382284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3151080"/>
                    <a:ext cx="382284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859280" y="4862520"/>
          <a:ext cx="4038480" cy="19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2520"/>
                    <a:ext cx="40384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40" y="1319040"/>
          <a:ext cx="3500640" cy="1760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1319040"/>
                    <a:ext cx="350064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022120" y="80964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4,2%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елают утренню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гимнасти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86440" y="2637000"/>
            <a:ext cx="331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вигательная активность ограниче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уроками физкультуры в школ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3933720"/>
            <a:ext cx="19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,3%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имеют достаточн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лительность прогуло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84360" y="5229360"/>
            <a:ext cx="115092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877080" y="90792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2012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ипокинезия в школьном возрасте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ссоциирована с отклонениями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состоянии здоровья:  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42920" y="198900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ртериальная гипертенз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медленное половое созре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ункциональные отклонения и хрон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олезни системы пищева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быточная масса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ефицит масс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Распространенность отдельных нарушений питания  среди старшеклассников московских школ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 1995-1997  и 2005-2007 гг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8960" y="1380960"/>
          <a:ext cx="8099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80960"/>
                    <a:ext cx="80996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Распространенность отдельных нарушений питания  среди младших школьников в динамике обучения (%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0" y="1380960"/>
          <a:ext cx="9144000" cy="532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0960"/>
                    <a:ext cx="9144000" cy="53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ДИНАМИКА НАРУШЕНИЙ ПИТАНИЯ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СРЕДИ УЧАЩИХСЯ МОСКОВСКИХ ШКОЛ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ЗА ПЕРИОД ОБУЧЕНИЯ (1-6 КЛАССЫ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916280"/>
          <a:ext cx="930744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93074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116000" y="256464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1536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92640" y="22766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363000">
            <a:off x="4991040" y="2997360"/>
            <a:ext cx="2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22936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5804640"/>
            <a:ext cx="971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≤0,01 – достоверность различ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 показателями в групп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ов 1-2 классов и 5-6 кла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465300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,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4760" y="412128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,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Нарушения питания,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ассоциированные с отклонениями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в состоянии здоровья школьников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00000" y="1700280"/>
          <a:ext cx="7704360" cy="4889520"/>
        </p:xfrm>
        <a:graphic>
          <a:graphicData uri="http://schemas.openxmlformats.org/drawingml/2006/table">
            <a:tbl>
              <a:tblPr/>
              <a:tblGrid>
                <a:gridCol w="2519640"/>
                <a:gridCol w="2593800"/>
                <a:gridCol w="25909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аруше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ита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Функциональные отклоне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Хронически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болез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риём пищи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2 раза в день и реж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ерв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свежих овощей и фруктов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 раз в неделю и реж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ru-RU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ардиопат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ищеваритель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эндокрин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консервированных продуктов 3 раз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в неделю и чащ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ерв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молочных и мясных продуктов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 раз в неделю и реж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артериальная      гипертенз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24:54Z</dcterms:created>
  <dc:creator>Храмцов</dc:creator>
  <dc:description/>
  <dc:language>en-US</dc:language>
  <cp:lastModifiedBy>1</cp:lastModifiedBy>
  <dcterms:modified xsi:type="dcterms:W3CDTF">2010-12-02T05:04:44Z</dcterms:modified>
  <cp:revision>452</cp:revision>
  <dc:subject/>
  <dc:title>ЗДОРОВЬЕСБЕРЕГАЮЩИЕ РЕСУРСЫ  РОССИЙСКОЙ ШКОЛЫ</dc:title>
</cp:coreProperties>
</file>