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F70-C90A-4569-B8AA-820A10C9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907-438E-44A5-A6A3-F848773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996-F8F2-46CD-AD12-F62EE16A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917-84C5-4072-A973-D6D1B18E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D6F-24C4-4FB4-8D1A-E016664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18B-7694-40F1-9488-C8999AC4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D4F-2A6B-4413-A5D4-C731959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361-6348-455C-8377-D136495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BF0-7467-4692-AD9E-9B9231A6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44D-C7B6-4420-AF1B-AD1C34B3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3BB-B754-41DB-A281-5AD23E2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A0B-5221-4444-AA65-EC7BA29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55B-F7EC-432B-BB37-9A3F02C79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68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 РЕЗУЛЬТАТАХ ВСЕРОССИЙСКОГО КОНКУР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«ШКОЛЫ ЗДОРОВЬЯ В РОССИИ: СОДЕЙСТВОВАТЬ ЗДОРОВЬЮ – ПОВЫШАТЬ КАЧЕСТВО ЖИЗН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45608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ИНДЖИ НАТАЛИЯ НИКОЛАЕВ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КТОР МЕДИЦИНСКИХ НАУК, ПРОФЕСС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И ГИГИЕНЫ И ОХРАНЫ ЗДОРОВЬЯ ДЕТЕЙ И ПОДРОСТКОВ НЦЗД РАМ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Ступени развития школ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565360"/>
            <a:ext cx="122400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637000"/>
            <a:ext cx="1800000" cy="93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637000"/>
            <a:ext cx="64764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2637000"/>
            <a:ext cx="216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141300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1413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844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95912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341360"/>
            <a:ext cx="976320" cy="574920"/>
          </a:xfrm>
          <a:prstGeom prst="rightArrow">
            <a:avLst>
              <a:gd name="adj1" fmla="val 50000"/>
              <a:gd name="adj2" fmla="val 4245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616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413000"/>
            <a:ext cx="1655640" cy="485640"/>
          </a:xfrm>
          <a:prstGeom prst="rightArrow">
            <a:avLst>
              <a:gd name="adj1" fmla="val 50000"/>
              <a:gd name="adj2" fmla="val 852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7220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413000"/>
            <a:ext cx="1008000" cy="485640"/>
          </a:xfrm>
          <a:prstGeom prst="rightArrow">
            <a:avLst>
              <a:gd name="adj1" fmla="val 50000"/>
              <a:gd name="adj2" fmla="val 5189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rot="19354800">
            <a:off x="43200" y="4128840"/>
            <a:ext cx="244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ступень – Школа, пропагандирующая здоров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 rot="19192200">
            <a:off x="1428840" y="4362120"/>
            <a:ext cx="29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ступень – Школа, содействующая укреплению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 rot="19212600">
            <a:off x="3360600" y="445248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ступень – Школа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4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4130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rot="19411800">
            <a:off x="5592960" y="4420800"/>
            <a:ext cx="28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ступень – Школа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ункты, требующие особого внимания при проведении ауд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4. ХАРАКТЕРИСТИКА ЗДОРОВЬЯ В ПЕРЕЧНЕ ПОКАЗАТЕЛЕЙ ЭФФЕКТИВНОСТИ РАБОТЫ ШКОЛЫ: ДИНАМИКА ЗА 2-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пространенности функциональных откло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пространенности хронических заболе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по данным профилактических осмот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оказателей острой заболеваем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ическ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ической подготовл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пределения на группы здоров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СРЕДА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1:57:33Z</dcterms:created>
  <dc:creator>Лапонов</dc:creator>
  <dc:description/>
  <dc:language>en-US</dc:language>
  <cp:lastModifiedBy>nc</cp:lastModifiedBy>
  <dcterms:modified xsi:type="dcterms:W3CDTF">2010-11-30T12:40:49Z</dcterms:modified>
  <cp:revision>17</cp:revision>
  <dc:subject/>
  <dc:title>Слайд 1</dc:title>
</cp:coreProperties>
</file>